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FCF-2405-4FC0-8F33-2C91EE1E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306-4BA4-4070-883E-598D3397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FC7-452F-4D99-A25F-6A9F1F6B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7D8-720C-4966-8224-E86C7B42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85E-61C3-48BA-96C6-FFA5272B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9CC-1A06-4A2E-96A5-9F44A88A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7B7-079C-448E-BBA7-3C2C7919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EE8-BDC4-442F-B943-F03435D1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F10-37DA-4DAA-879F-75408808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79B-4D63-46F9-BFB1-CF400CA2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F1B-113F-47AA-AB9C-D273BBDD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3D2-3039-4771-88DD-A8FC2E3A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702E-FFD2-475C-8CD2-707D6BA3C90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7 Náš chválospev nech zaz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Náš chválospev nech zaznie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na slávu Pánovi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že k nemu prístup máme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jak deti k Otcov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c nad všetkým on vlád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ečnú slávu m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rád nás vypoču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 láskou pri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hriech a našu zlob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yn Boží zomier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c prešiel bránou hrob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mocne zmŕtvychv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 Pánom v sláve Otc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al ľudskú podob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bez reptania znáš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našu chudob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ňom vždy máme spie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zdávať jemu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jeho meno vzý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blížnych k nemu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vierou spásu ví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v Božej ochr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pomoc pre boj žit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neho do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vrúcne Pána chváľ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je čas mil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velebiť ho m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ečnej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vyzná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ľuďmi na ze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chválu jemu vďač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 aj pred anjelmi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02:01Z</dcterms:modified>
  <cp:revision>89</cp:revision>
  <dc:subject/>
  <dc:title>Je veľký náš Pán, on slávy je Kráľ Nech do všetkých strán  spev vrúcnych znie chvál.</dc:title>
</cp:coreProperties>
</file>